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9.jpeg" ContentType="image/jpeg"/>
  <Override PartName="/ppt/media/image1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820B-8C8A-4F51-8857-B4917665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8C66-00E1-4210-8E06-92F5B3F8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3DE6-9450-4927-A63F-38EF90C2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6BF6-8B81-4E94-84CF-D735A42D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3B83-4952-48F4-9884-B44B3CD9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2B68-3CD6-4848-9C96-86B6F350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947D-81CE-4A6C-8699-1F27CF6A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3DE8-0189-4D11-AABB-BB5221A4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A180-E16F-4D79-B910-C0B72D4D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5B42-FC69-475C-965A-47C0DF7F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03AF-F646-4E61-8593-5CE9771F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77CD-874B-49FE-9943-FD0F3E63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79FD-E0DD-492C-B232-C84CD751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D56C-D3A8-4EA4-A734-6FCF92EB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1785-5BE5-4F9E-8052-124A533E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F8A8-8528-4C8A-B9B8-C595A391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BFF5-9AF0-4530-A4B4-94C03BF5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907DF-34A3-4632-BDF6-B5EA5579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CB2D2-92EC-4C15-8E7A-56621B8A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64073-BBE0-43EA-AED8-5A4E0FE5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D6573-FA4A-46BC-A987-84DB2973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C64BD-8B0B-4D93-9BD4-A83F76C9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BA9B-9317-4D9E-9645-0664B0E2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FA795-6D74-4FC1-A17A-411B6A7F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A9684-A9A5-471B-8CBC-EBA497CE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A0087-09FC-4071-93BB-550A5806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2A792-A470-43F1-AC9D-B3167470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6C9F9-6BEE-4C3D-A81D-B82221F0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D9923-21A2-48E5-9C56-284B135D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64214-0283-45C9-B815-DA19F054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5548C-FBD2-4E58-BE44-38E05B37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2F26D-E6D6-4F0D-9866-5D8036AC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38265-B501-4DA9-B052-D78D2075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E83D-F290-43B9-B908-015014E1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C0418-E811-4F81-AE11-DDA8AC0E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D4488-AE91-4248-A38D-E195DBB4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C7918-E374-4AED-AE7D-36DAE41D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14CC8-0457-4BA7-A844-A0E6B96D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2E3C2-8F13-4275-9A61-EFB30553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65A31-24FD-46ED-887D-12EE046D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9F452-C818-4A7D-9BD3-DFF84321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BD680-D221-4F3A-B012-46FA122A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1E90A-54C9-4D14-97B6-68EAE0FF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483CC-12B4-4470-8657-799EC57B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2B3C-8533-4330-AEDD-A74D5DB1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D0B28-137B-4CAB-8618-DBFB4A8C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61022-6999-4501-B040-62D0AB5F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55E9F-DF93-420B-806B-266FB7F2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AEFF4-5AAD-4CBC-8FDF-5221DC8F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C41BD-11EF-431E-A126-DA69DFA0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525A9-683E-4676-B3CD-78B2149B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973A9-DAD0-4CD5-B3D8-1A95ADEB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6F006-2F44-4520-80F2-A4B4E43A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92634-D6B2-4D48-AC97-98011859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148A6-7D2A-431C-870E-8BBBDC36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04AC-EC01-4319-B36C-77C792A3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DDDE5-FC49-4C89-B83E-15C2E2A9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89EF-8CAF-49ED-BEFD-81B74385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C6D6-6AE7-4605-A820-0A1DA14B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173-E2DE-4408-91ED-6CC20CF9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1AA8-1FC3-4010-9500-4CF9A92BDFB5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Prostokąt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Prostokąt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Łącznik prosty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EC29-024C-4499-B30F-196D01B34B30}" type="slidenum">
              <a:rPr b="0" lang="pl-PL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1EE9-56E8-4B62-91B5-D8CFC1257651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ostokąt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rostokąt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D384-CC93-4EBD-B022-D8DC99500118}" type="slidenum">
              <a:rPr b="0" lang="pl-PL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7FA9-C436-47DE-A5CB-87378790C265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ytuł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52276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Trebuchet MS"/>
              </a:rPr>
              <a:t>Skuteczne przekazywanie informacji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ytuł 1" descr=""/>
          <p:cNvPicPr/>
          <p:nvPr/>
        </p:nvPicPr>
        <p:blipFill>
          <a:blip r:embed="rId1"/>
          <a:stretch/>
        </p:blipFill>
        <p:spPr>
          <a:xfrm>
            <a:off x="317520" y="225360"/>
            <a:ext cx="7381800" cy="1238400"/>
          </a:xfrm>
          <a:prstGeom prst="rect">
            <a:avLst/>
          </a:prstGeom>
          <a:ln w="0">
            <a:noFill/>
          </a:ln>
        </p:spPr>
      </p:pic>
      <p:pic>
        <p:nvPicPr>
          <p:cNvPr id="223" name="Symbol zastępczy zawartości 3" descr=""/>
          <p:cNvPicPr/>
          <p:nvPr/>
        </p:nvPicPr>
        <p:blipFill>
          <a:blip r:embed="rId2"/>
          <a:stretch/>
        </p:blipFill>
        <p:spPr>
          <a:xfrm>
            <a:off x="2414520" y="835200"/>
            <a:ext cx="5510160" cy="5773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MK\Ustawienia lokalne\Temporary Internet Files\Content.IE5\RNQRUGPE\MP900430530[1].jpg"/>
          <p:cNvPicPr/>
          <p:nvPr/>
        </p:nvPicPr>
        <p:blipFill>
          <a:blip r:embed="rId3"/>
          <a:stretch/>
        </p:blipFill>
        <p:spPr>
          <a:xfrm>
            <a:off x="422280" y="2762280"/>
            <a:ext cx="1765440" cy="1177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C:\Documents and Settings\MK\Ustawienia lokalne\Temporary Internet Files\Content.IE5\I715L005\MP900439397[1].jpg"/>
          <p:cNvPicPr/>
          <p:nvPr/>
        </p:nvPicPr>
        <p:blipFill>
          <a:blip r:embed="rId4"/>
          <a:stretch/>
        </p:blipFill>
        <p:spPr>
          <a:xfrm>
            <a:off x="433440" y="909720"/>
            <a:ext cx="1762200" cy="1176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C:\Documents and Settings\MK\Ustawienia lokalne\Temporary Internet Files\Content.IE5\RNQRUGPE\MP900386353[1].jpg"/>
          <p:cNvPicPr/>
          <p:nvPr/>
        </p:nvPicPr>
        <p:blipFill>
          <a:blip r:embed="rId5"/>
          <a:stretch/>
        </p:blipFill>
        <p:spPr>
          <a:xfrm>
            <a:off x="468360" y="4581360"/>
            <a:ext cx="1763640" cy="1170000"/>
          </a:xfrm>
          <a:prstGeom prst="rect">
            <a:avLst/>
          </a:prstGeom>
          <a:ln w="0">
            <a:noFill/>
          </a:ln>
        </p:spPr>
      </p:pic>
      <p:sp>
        <p:nvSpPr>
          <p:cNvPr id="227" name="Prostokąt 8"/>
          <p:cNvSpPr/>
          <p:nvPr/>
        </p:nvSpPr>
        <p:spPr>
          <a:xfrm>
            <a:off x="395280" y="5805360"/>
            <a:ext cx="22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000000"/>
                </a:solidFill>
                <a:latin typeface="Trebuchet MS"/>
              </a:rPr>
              <a:t>Do dzieła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rostokąt 9"/>
          <p:cNvSpPr/>
          <p:nvPr/>
        </p:nvSpPr>
        <p:spPr>
          <a:xfrm>
            <a:off x="324000" y="2133720"/>
            <a:ext cx="2303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000000"/>
                </a:solidFill>
                <a:latin typeface="Trebuchet MS"/>
              </a:rPr>
              <a:t>Planujem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rostokąt 10"/>
          <p:cNvSpPr/>
          <p:nvPr/>
        </p:nvSpPr>
        <p:spPr>
          <a:xfrm>
            <a:off x="431280" y="3959280"/>
            <a:ext cx="190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000000"/>
                </a:solidFill>
                <a:latin typeface="Trebuchet MS"/>
              </a:rPr>
              <a:t>Jeden obraz to tysiąc słó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ytuł 1" descr=""/>
          <p:cNvPicPr/>
          <p:nvPr/>
        </p:nvPicPr>
        <p:blipFill>
          <a:blip r:embed="rId1"/>
          <a:stretch/>
        </p:blipFill>
        <p:spPr>
          <a:xfrm>
            <a:off x="334800" y="231840"/>
            <a:ext cx="7364520" cy="1231920"/>
          </a:xfrm>
          <a:prstGeom prst="rect">
            <a:avLst/>
          </a:prstGeom>
          <a:ln w="0">
            <a:noFill/>
          </a:ln>
        </p:spPr>
      </p:pic>
      <p:grpSp>
        <p:nvGrpSpPr>
          <p:cNvPr id="231" name="Grupa 24"/>
          <p:cNvGrpSpPr/>
          <p:nvPr/>
        </p:nvGrpSpPr>
        <p:grpSpPr>
          <a:xfrm>
            <a:off x="468360" y="1413000"/>
            <a:ext cx="3166920" cy="2160360"/>
            <a:chOff x="468360" y="1413000"/>
            <a:chExt cx="3166920" cy="2160360"/>
          </a:xfrm>
        </p:grpSpPr>
        <p:sp>
          <p:nvSpPr>
            <p:cNvPr id="232" name="pole tekstowe 5"/>
            <p:cNvSpPr/>
            <p:nvPr/>
          </p:nvSpPr>
          <p:spPr>
            <a:xfrm>
              <a:off x="468360" y="1413000"/>
              <a:ext cx="3166920" cy="2160360"/>
            </a:xfrm>
            <a:prstGeom prst="rect">
              <a:avLst/>
            </a:prstGeom>
            <a:solidFill>
              <a:srgbClr val="dec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Cel prezentacj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3" descr="C:\Documents and Settings\MK\Ustawienia lokalne\Temporary Internet Files\Content.IE5\3JSHBOGL\MP900431735[1].jpg"/>
            <p:cNvPicPr/>
            <p:nvPr/>
          </p:nvPicPr>
          <p:blipFill>
            <a:blip r:embed="rId2"/>
            <a:stretch/>
          </p:blipFill>
          <p:spPr>
            <a:xfrm>
              <a:off x="2339640" y="2205000"/>
              <a:ext cx="122364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" descr="C:\Documents and Settings\MK\Ustawienia lokalne\Temporary Internet Files\Content.IE5\AUXUKJDN\MP900386406[1].jpg"/>
            <p:cNvPicPr/>
            <p:nvPr/>
          </p:nvPicPr>
          <p:blipFill>
            <a:blip r:embed="rId3"/>
            <a:stretch/>
          </p:blipFill>
          <p:spPr>
            <a:xfrm>
              <a:off x="1260000" y="1869120"/>
              <a:ext cx="1197360" cy="11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2" descr="C:\Documents and Settings\MK\Ustawienia lokalne\Temporary Internet Files\Content.IE5\RNQRUGPE\MP900400225[1].jpg"/>
            <p:cNvPicPr/>
            <p:nvPr/>
          </p:nvPicPr>
          <p:blipFill>
            <a:blip r:embed="rId4"/>
            <a:stretch/>
          </p:blipFill>
          <p:spPr>
            <a:xfrm>
              <a:off x="540000" y="2277000"/>
              <a:ext cx="978480" cy="122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Grupa 25"/>
          <p:cNvGrpSpPr/>
          <p:nvPr/>
        </p:nvGrpSpPr>
        <p:grpSpPr>
          <a:xfrm>
            <a:off x="468360" y="3860640"/>
            <a:ext cx="3166920" cy="2160720"/>
            <a:chOff x="468360" y="3860640"/>
            <a:chExt cx="3166920" cy="2160720"/>
          </a:xfrm>
        </p:grpSpPr>
        <p:sp>
          <p:nvSpPr>
            <p:cNvPr id="237" name="pole tekstowe 6"/>
            <p:cNvSpPr/>
            <p:nvPr/>
          </p:nvSpPr>
          <p:spPr>
            <a:xfrm>
              <a:off x="468360" y="3860640"/>
              <a:ext cx="3166920" cy="2160720"/>
            </a:xfrm>
            <a:prstGeom prst="rect">
              <a:avLst/>
            </a:prstGeom>
            <a:solidFill>
              <a:srgbClr val="dec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Odbior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1" descr="C:\Documents and Settings\MK\Ustawienia lokalne\Temporary Internet Files\Content.IE5\I715L005\MP900422581[1].jpg"/>
            <p:cNvPicPr/>
            <p:nvPr/>
          </p:nvPicPr>
          <p:blipFill>
            <a:blip r:embed="rId5"/>
            <a:stretch/>
          </p:blipFill>
          <p:spPr>
            <a:xfrm>
              <a:off x="2052000" y="4220640"/>
              <a:ext cx="1563840" cy="12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2" descr="C:\Documents and Settings\MK\Ustawienia lokalne\Temporary Internet Files\Content.IE5\3JSHBOGL\MP900409652[1].jpg"/>
            <p:cNvPicPr/>
            <p:nvPr/>
          </p:nvPicPr>
          <p:blipFill>
            <a:blip r:embed="rId6"/>
            <a:stretch/>
          </p:blipFill>
          <p:spPr>
            <a:xfrm>
              <a:off x="1260000" y="4797000"/>
              <a:ext cx="122364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9" descr="C:\Documents and Settings\MK\Ustawienia lokalne\Temporary Internet Files\Content.IE5\AUXUKJDN\MP900439399[1].jpg"/>
            <p:cNvPicPr/>
            <p:nvPr/>
          </p:nvPicPr>
          <p:blipFill>
            <a:blip r:embed="rId7"/>
            <a:stretch/>
          </p:blipFill>
          <p:spPr>
            <a:xfrm>
              <a:off x="540000" y="4220640"/>
              <a:ext cx="935640" cy="140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Strzałka w prawo 18"/>
          <p:cNvSpPr/>
          <p:nvPr/>
        </p:nvSpPr>
        <p:spPr>
          <a:xfrm>
            <a:off x="3780000" y="4437000"/>
            <a:ext cx="1079280" cy="8636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ffffff"/>
                </a:solidFill>
                <a:latin typeface="Trebuchet MS"/>
              </a:rPr>
              <a:t>Dostos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ole tekstowe 19"/>
          <p:cNvSpPr/>
          <p:nvPr/>
        </p:nvSpPr>
        <p:spPr>
          <a:xfrm>
            <a:off x="5148360" y="21286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ilość tekstu na slajd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ole tekstowe 20"/>
          <p:cNvSpPr/>
          <p:nvPr/>
        </p:nvSpPr>
        <p:spPr>
          <a:xfrm>
            <a:off x="5148360" y="1700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liczbę slajd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ole tekstowe 21"/>
          <p:cNvSpPr/>
          <p:nvPr/>
        </p:nvSpPr>
        <p:spPr>
          <a:xfrm>
            <a:off x="5076720" y="42861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słownic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ole tekstowe 23"/>
          <p:cNvSpPr/>
          <p:nvPr/>
        </p:nvSpPr>
        <p:spPr>
          <a:xfrm>
            <a:off x="5076720" y="479124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akres trudn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załka w prawo 26"/>
          <p:cNvSpPr/>
          <p:nvPr/>
        </p:nvSpPr>
        <p:spPr>
          <a:xfrm>
            <a:off x="3851280" y="2205000"/>
            <a:ext cx="1081080" cy="86364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ffffff"/>
                </a:solidFill>
                <a:latin typeface="Trebuchet MS"/>
              </a:rPr>
              <a:t>Dostos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ole tekstowe 27"/>
          <p:cNvSpPr/>
          <p:nvPr/>
        </p:nvSpPr>
        <p:spPr>
          <a:xfrm>
            <a:off x="5076720" y="5373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grafik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ole tekstowe 28"/>
          <p:cNvSpPr/>
          <p:nvPr/>
        </p:nvSpPr>
        <p:spPr>
          <a:xfrm>
            <a:off x="5183280" y="26128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rodzaj i szybkość anim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32" descr="Obraz3.jpg"/>
          <p:cNvPicPr/>
          <p:nvPr/>
        </p:nvPicPr>
        <p:blipFill>
          <a:blip r:embed="rId8"/>
          <a:stretch/>
        </p:blipFill>
        <p:spPr>
          <a:xfrm>
            <a:off x="8151840" y="68400"/>
            <a:ext cx="101124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ytuł 1" descr=""/>
          <p:cNvPicPr/>
          <p:nvPr/>
        </p:nvPicPr>
        <p:blipFill>
          <a:blip r:embed="rId1"/>
          <a:stretch/>
        </p:blipFill>
        <p:spPr>
          <a:xfrm>
            <a:off x="334800" y="231840"/>
            <a:ext cx="7364520" cy="1231920"/>
          </a:xfrm>
          <a:prstGeom prst="rect">
            <a:avLst/>
          </a:prstGeom>
          <a:ln w="0">
            <a:noFill/>
          </a:ln>
        </p:spPr>
      </p:pic>
      <p:pic>
        <p:nvPicPr>
          <p:cNvPr id="251" name="Obraz 3" descr="Obraz4.jpg"/>
          <p:cNvPicPr/>
          <p:nvPr/>
        </p:nvPicPr>
        <p:blipFill>
          <a:blip r:embed="rId2"/>
          <a:stretch/>
        </p:blipFill>
        <p:spPr>
          <a:xfrm>
            <a:off x="8153280" y="1440"/>
            <a:ext cx="1011240" cy="2059200"/>
          </a:xfrm>
          <a:prstGeom prst="rect">
            <a:avLst/>
          </a:prstGeom>
          <a:ln w="0">
            <a:noFill/>
          </a:ln>
        </p:spPr>
      </p:pic>
      <p:sp>
        <p:nvSpPr>
          <p:cNvPr id="252" name="pole tekstowe 4"/>
          <p:cNvSpPr/>
          <p:nvPr/>
        </p:nvSpPr>
        <p:spPr>
          <a:xfrm>
            <a:off x="179280" y="1484280"/>
            <a:ext cx="4032360" cy="2449440"/>
          </a:xfrm>
          <a:prstGeom prst="rect">
            <a:avLst/>
          </a:prstGeom>
          <a:noFill/>
          <a:ln w="28440">
            <a:solidFill>
              <a:srgbClr val="f9b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Wybierz rodzaj motywu oraz kolorystykę i stosuj je konsekwent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ole tekstowe 5"/>
          <p:cNvSpPr/>
          <p:nvPr/>
        </p:nvSpPr>
        <p:spPr>
          <a:xfrm>
            <a:off x="179280" y="4076640"/>
            <a:ext cx="4032360" cy="2376720"/>
          </a:xfrm>
          <a:prstGeom prst="rect">
            <a:avLst/>
          </a:prstGeom>
          <a:noFill/>
          <a:ln w="2844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astanów się, w  jaki prosty sposób można zobrazować tre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ole tekstowe 6"/>
          <p:cNvSpPr/>
          <p:nvPr/>
        </p:nvSpPr>
        <p:spPr>
          <a:xfrm>
            <a:off x="4427640" y="1484280"/>
            <a:ext cx="3600360" cy="4969080"/>
          </a:xfrm>
          <a:prstGeom prst="rect">
            <a:avLst/>
          </a:prstGeom>
          <a:noFill/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astosuj pomoce grafi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Smar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Wykre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Kształ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dję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3"/>
          <a:stretch/>
        </p:blipFill>
        <p:spPr>
          <a:xfrm>
            <a:off x="250920" y="2421000"/>
            <a:ext cx="2738520" cy="936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4"/>
          <a:stretch/>
        </p:blipFill>
        <p:spPr>
          <a:xfrm>
            <a:off x="3094200" y="2205000"/>
            <a:ext cx="985680" cy="1560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5"/>
          <a:stretch/>
        </p:blipFill>
        <p:spPr>
          <a:xfrm>
            <a:off x="4716360" y="4221000"/>
            <a:ext cx="1943280" cy="1330560"/>
          </a:xfrm>
          <a:prstGeom prst="rect">
            <a:avLst/>
          </a:prstGeom>
          <a:ln w="0">
            <a:noFill/>
          </a:ln>
        </p:spPr>
      </p:pic>
      <p:grpSp>
        <p:nvGrpSpPr>
          <p:cNvPr id="258" name="Grupa 19"/>
          <p:cNvGrpSpPr/>
          <p:nvPr/>
        </p:nvGrpSpPr>
        <p:grpSpPr>
          <a:xfrm>
            <a:off x="5651640" y="1951200"/>
            <a:ext cx="2286000" cy="2269800"/>
            <a:chOff x="5651640" y="1951200"/>
            <a:chExt cx="2286000" cy="2269800"/>
          </a:xfrm>
        </p:grpSpPr>
        <p:pic>
          <p:nvPicPr>
            <p:cNvPr id="259" name="Picture 4" descr=""/>
            <p:cNvPicPr/>
            <p:nvPr/>
          </p:nvPicPr>
          <p:blipFill>
            <a:blip r:embed="rId6"/>
            <a:stretch/>
          </p:blipFill>
          <p:spPr>
            <a:xfrm>
              <a:off x="5717160" y="1951200"/>
              <a:ext cx="2192760" cy="121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Diagram 12" descr=""/>
            <p:cNvPicPr/>
            <p:nvPr/>
          </p:nvPicPr>
          <p:blipFill>
            <a:blip r:embed="rId7"/>
            <a:stretch/>
          </p:blipFill>
          <p:spPr>
            <a:xfrm>
              <a:off x="6611040" y="3204000"/>
              <a:ext cx="132660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Diagram 13" descr=""/>
            <p:cNvPicPr/>
            <p:nvPr/>
          </p:nvPicPr>
          <p:blipFill>
            <a:blip r:embed="rId8"/>
            <a:stretch/>
          </p:blipFill>
          <p:spPr>
            <a:xfrm>
              <a:off x="5651640" y="3264480"/>
              <a:ext cx="1178640" cy="92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2" name="Grupa 21"/>
          <p:cNvGrpSpPr/>
          <p:nvPr/>
        </p:nvGrpSpPr>
        <p:grpSpPr>
          <a:xfrm>
            <a:off x="5842080" y="5694480"/>
            <a:ext cx="1944720" cy="696600"/>
            <a:chOff x="5842080" y="5694480"/>
            <a:chExt cx="1944720" cy="696600"/>
          </a:xfrm>
        </p:grpSpPr>
        <p:sp>
          <p:nvSpPr>
            <p:cNvPr id="263" name="Strzałka kolista 17"/>
            <p:cNvSpPr/>
            <p:nvPr/>
          </p:nvSpPr>
          <p:spPr>
            <a:xfrm rot="10800000">
              <a:off x="6562440" y="5814720"/>
              <a:ext cx="647640" cy="576360"/>
            </a:xfrm>
            <a:custGeom>
              <a:avLst/>
              <a:gdLst/>
              <a:ahLst/>
              <a:rect l="l" t="t" r="r" b="b"/>
              <a:pathLst>
                <a:path w="647543" h="576201">
                  <a:moveTo>
                    <a:pt x="36013" y="288101"/>
                  </a:moveTo>
                  <a:cubicBezTo>
                    <a:pt x="36013" y="161135"/>
                    <a:pt x="143800" y="53983"/>
                    <a:pt x="287581" y="38015"/>
                  </a:cubicBezTo>
                  <a:cubicBezTo>
                    <a:pt x="423451" y="22925"/>
                    <a:pt x="552635" y="93817"/>
                    <a:pt x="596426" y="207499"/>
                  </a:cubicBezTo>
                  <a:lnTo>
                    <a:pt x="629372" y="207498"/>
                  </a:lnTo>
                  <a:lnTo>
                    <a:pt x="575518" y="288100"/>
                  </a:lnTo>
                  <a:lnTo>
                    <a:pt x="485321" y="207498"/>
                  </a:lnTo>
                  <a:lnTo>
                    <a:pt x="516684" y="207498"/>
                  </a:lnTo>
                  <a:cubicBezTo>
                    <a:pt x="474282" y="136800"/>
                    <a:pt x="381587" y="97458"/>
                    <a:pt x="288162" y="110508"/>
                  </a:cubicBezTo>
                  <a:cubicBezTo>
                    <a:pt x="184203" y="125029"/>
                    <a:pt x="108037" y="200125"/>
                    <a:pt x="108037" y="288101"/>
                  </a:cubicBezTo>
                  <a:lnTo>
                    <a:pt x="36013" y="288101"/>
                  </a:lnTo>
                  <a:close/>
                </a:path>
              </a:pathLst>
            </a:custGeom>
            <a:solidFill>
              <a:srgbClr val="de6c36"/>
            </a:solidFill>
            <a:ln w="39960">
              <a:solidFill>
                <a:srgbClr val="b24d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upa 20"/>
            <p:cNvGrpSpPr/>
            <p:nvPr/>
          </p:nvGrpSpPr>
          <p:grpSpPr>
            <a:xfrm>
              <a:off x="5842080" y="5694480"/>
              <a:ext cx="1944720" cy="614520"/>
              <a:chOff x="5842080" y="5694480"/>
              <a:chExt cx="1944720" cy="614520"/>
            </a:xfrm>
          </p:grpSpPr>
          <p:sp>
            <p:nvSpPr>
              <p:cNvPr id="265" name="Pagon 15"/>
              <p:cNvSpPr/>
              <p:nvPr/>
            </p:nvSpPr>
            <p:spPr>
              <a:xfrm>
                <a:off x="5842080" y="5803920"/>
                <a:ext cx="647640" cy="50508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505080"/>
                  <a:gd name="textAreaBottom" fmla="*/ 505440 h 50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181" y="0"/>
                    </a:lnTo>
                    <a:lnTo>
                      <a:pt x="21600" y="10800"/>
                    </a:lnTo>
                    <a:lnTo>
                      <a:pt x="13181" y="21600"/>
                    </a:lnTo>
                    <a:lnTo>
                      <a:pt x="0" y="21600"/>
                    </a:lnTo>
                    <a:lnTo>
                      <a:pt x="8419" y="10800"/>
                    </a:lnTo>
                    <a:close/>
                  </a:path>
                </a:pathLst>
              </a:custGeom>
              <a:solidFill>
                <a:srgbClr val="f9b639"/>
              </a:solidFill>
              <a:ln w="39960">
                <a:solidFill>
                  <a:srgbClr val="df93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Strzałka kolista 16"/>
              <p:cNvSpPr/>
              <p:nvPr/>
            </p:nvSpPr>
            <p:spPr>
              <a:xfrm>
                <a:off x="6562800" y="5694480"/>
                <a:ext cx="647640" cy="576720"/>
              </a:xfrm>
              <a:custGeom>
                <a:avLst/>
                <a:gdLst/>
                <a:ahLst/>
                <a:rect l="l" t="t" r="r" b="b"/>
                <a:pathLst>
                  <a:path w="647543" h="576201">
                    <a:moveTo>
                      <a:pt x="36013" y="288101"/>
                    </a:moveTo>
                    <a:cubicBezTo>
                      <a:pt x="36013" y="161135"/>
                      <a:pt x="143800" y="53983"/>
                      <a:pt x="287581" y="38015"/>
                    </a:cubicBezTo>
                    <a:cubicBezTo>
                      <a:pt x="423451" y="22925"/>
                      <a:pt x="552635" y="93817"/>
                      <a:pt x="596426" y="207499"/>
                    </a:cubicBezTo>
                    <a:lnTo>
                      <a:pt x="629372" y="207498"/>
                    </a:lnTo>
                    <a:lnTo>
                      <a:pt x="575518" y="288100"/>
                    </a:lnTo>
                    <a:lnTo>
                      <a:pt x="485321" y="207498"/>
                    </a:lnTo>
                    <a:lnTo>
                      <a:pt x="516684" y="207498"/>
                    </a:lnTo>
                    <a:cubicBezTo>
                      <a:pt x="474282" y="136800"/>
                      <a:pt x="381587" y="97458"/>
                      <a:pt x="288162" y="110508"/>
                    </a:cubicBezTo>
                    <a:cubicBezTo>
                      <a:pt x="184203" y="125029"/>
                      <a:pt x="108037" y="200125"/>
                      <a:pt x="108037" y="288101"/>
                    </a:cubicBezTo>
                    <a:lnTo>
                      <a:pt x="36013" y="288101"/>
                    </a:lnTo>
                    <a:close/>
                  </a:path>
                </a:pathLst>
              </a:custGeom>
              <a:solidFill>
                <a:srgbClr val="de6c36"/>
              </a:solidFill>
              <a:ln w="39960">
                <a:solidFill>
                  <a:srgbClr val="b24d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Zagięty narożnik 18"/>
              <p:cNvSpPr/>
              <p:nvPr/>
            </p:nvSpPr>
            <p:spPr>
              <a:xfrm>
                <a:off x="7355160" y="5803920"/>
                <a:ext cx="431640" cy="433440"/>
              </a:xfrm>
              <a:prstGeom prst="foldedCorner">
                <a:avLst>
                  <a:gd name="adj" fmla="val 16666"/>
                </a:avLst>
              </a:prstGeom>
              <a:solidFill>
                <a:srgbClr val="cda3d6"/>
              </a:solidFill>
              <a:ln w="39960">
                <a:solidFill>
                  <a:srgbClr val="ac66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Prostokąt 23"/>
          <p:cNvSpPr/>
          <p:nvPr/>
        </p:nvSpPr>
        <p:spPr>
          <a:xfrm>
            <a:off x="250920" y="5013360"/>
            <a:ext cx="16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Wybierz rodzaj motywu oraz kolorystykę i bądź jej konsekwentny Zastosuj pomoce graficz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Zastanów się jak w prosty sposób można zobrazować treść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SmartArt, ClipArt, Wykresy Kształty Zdjęc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Wybierz rodzaj motywu oraz kolorystykę i bądź jej konsekwentny Zastosuj pomoce graficz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Zastanów się jak w prosty sposób można zobrazować treść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SmartArt, ClipArt, Wykresy Kształty Zdjęc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Wybierz rodzaj motywu oraz kolorystykę i bądź jej konsekwentny Zastosuj pomoce graficz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Zastanów się jak w prosty sposób można zobrazować treść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SmartArt, ClipArt, Wykresy Kształty Zdjęc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rójkąt równoramienny 24"/>
          <p:cNvSpPr/>
          <p:nvPr/>
        </p:nvSpPr>
        <p:spPr>
          <a:xfrm rot="5400000">
            <a:off x="1691280" y="5301000"/>
            <a:ext cx="863640" cy="144720"/>
          </a:xfrm>
          <a:prstGeom prst="triangle">
            <a:avLst>
              <a:gd name="adj" fmla="val 50000"/>
            </a:avLst>
          </a:prstGeom>
          <a:solidFill>
            <a:srgbClr val="eba786"/>
          </a:solidFill>
          <a:ln w="3996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Łącznik prosty 26"/>
          <p:cNvSpPr/>
          <p:nvPr/>
        </p:nvSpPr>
        <p:spPr>
          <a:xfrm>
            <a:off x="395280" y="5084640"/>
            <a:ext cx="115236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Łącznik prosty 27"/>
          <p:cNvSpPr/>
          <p:nvPr/>
        </p:nvSpPr>
        <p:spPr>
          <a:xfrm flipH="1">
            <a:off x="394920" y="5084640"/>
            <a:ext cx="115236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Diagram 34" descr=""/>
          <p:cNvPicPr/>
          <p:nvPr/>
        </p:nvPicPr>
        <p:blipFill>
          <a:blip r:embed="rId9"/>
          <a:stretch/>
        </p:blipFill>
        <p:spPr>
          <a:xfrm>
            <a:off x="2468520" y="4797360"/>
            <a:ext cx="1481040" cy="1365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C:\Documents and Settings\MK\Ustawienia lokalne\Temporary Internet Files\Content.IE5\I715L005\MP900401828[1].jpg"/>
          <p:cNvPicPr/>
          <p:nvPr/>
        </p:nvPicPr>
        <p:blipFill>
          <a:blip r:embed="rId10"/>
          <a:stretch/>
        </p:blipFill>
        <p:spPr>
          <a:xfrm>
            <a:off x="6950160" y="4363920"/>
            <a:ext cx="7189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ytuł 1" descr=""/>
          <p:cNvPicPr/>
          <p:nvPr/>
        </p:nvPicPr>
        <p:blipFill>
          <a:blip r:embed="rId1"/>
          <a:stretch/>
        </p:blipFill>
        <p:spPr>
          <a:xfrm>
            <a:off x="334800" y="231840"/>
            <a:ext cx="7364520" cy="12319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68360" y="1645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Zachowaj przejrzystość prezentacji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Nie przesadzaj z ilością tekstu i animacji na slajdach, aby odbiorca nie czuł się przytłoczony nadmiarem informacj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Dopracuj szczegóły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Stosuj jednolite czcionki i wyrównaj obrazy – różne czcionki i nierówno ustawione rysunki przeszkadzają w odbiorze i podważają profesjonalizm prezentacj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Usuń bękar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Do przeniesienia spójników pozostających na końcu wiersza, stosuj ręczny podział wiersza (</a:t>
            </a: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Shift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Enter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Dbaj o rozmiar prezentacji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24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Skompresuj prezentację, jeśli zawiera dużo grafiki. 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76" name="Obraz 3" descr="Obraz5.jpg"/>
          <p:cNvPicPr/>
          <p:nvPr/>
        </p:nvPicPr>
        <p:blipFill>
          <a:blip r:embed="rId2"/>
          <a:stretch/>
        </p:blipFill>
        <p:spPr>
          <a:xfrm>
            <a:off x="8153280" y="-7920"/>
            <a:ext cx="1009800" cy="20588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9"/>
          <p:cNvSpPr/>
          <p:nvPr/>
        </p:nvSpPr>
        <p:spPr>
          <a:xfrm rot="1207800">
            <a:off x="6371640" y="19047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b13f9a"/>
                </a:solidFill>
                <a:latin typeface="Arial"/>
              </a:rPr>
              <a:t>Mniej znaczy więcej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 rot="1207800">
            <a:off x="6235560" y="4398480"/>
            <a:ext cx="150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b13f9a"/>
                </a:solidFill>
                <a:latin typeface="Arial"/>
              </a:rPr>
              <a:t>Shift</a:t>
            </a:r>
            <a:r>
              <a:rPr b="0" lang="pl-PL" sz="1400" spc="-1" strike="noStrike">
                <a:solidFill>
                  <a:srgbClr val="b13f9a"/>
                </a:solidFill>
                <a:latin typeface="Arial"/>
              </a:rPr>
              <a:t>+</a:t>
            </a:r>
            <a:r>
              <a:rPr b="1" lang="pl-PL" sz="1400" spc="-1" strike="noStrike">
                <a:solidFill>
                  <a:srgbClr val="b13f9a"/>
                </a:solidFill>
                <a:latin typeface="Arial"/>
              </a:rPr>
              <a:t>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4T12:28:09Z</dcterms:created>
  <dc:creator>Twoja nazwa użytkownika</dc:creator>
  <dc:description/>
  <dc:language>en-US</dc:language>
  <cp:lastModifiedBy>MK</cp:lastModifiedBy>
  <dcterms:modified xsi:type="dcterms:W3CDTF">2013-04-23T19:34:22Z</dcterms:modified>
  <cp:revision>68</cp:revision>
  <dc:subject/>
  <dc:title>Tworzenie prezentacji</dc:title>
</cp:coreProperties>
</file>